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3F5B-18F7-4BA7-881B-C16A9D31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7A5F-B747-46AE-8234-146D806E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4EDE-A722-4018-B789-E261B4578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A45E-6E7B-4701-A775-A403D970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6787-4611-415D-8751-3C9CEEF9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FF5F-CDAA-45D1-9CEB-1029C7F2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C0CD-522C-41F5-9DB6-4E9E1593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1327-B1BF-4DCA-AC0F-5B94701A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EF1A-57AB-49BB-A393-539F2BCB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A39A-53F1-422E-9241-6A32F6FA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B203-81DE-462E-9F31-75CB5505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2934-D396-4B0D-8324-4AC326D1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A3A4-CF51-4013-8F5B-BCFBC46D2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slide" Target="slide52.xml"/><Relationship Id="rId6" Type="http://schemas.openxmlformats.org/officeDocument/2006/relationships/slide" Target="slide53.xml"/><Relationship Id="rId7" Type="http://schemas.openxmlformats.org/officeDocument/2006/relationships/slide" Target="slide54.xml"/><Relationship Id="rId8" Type="http://schemas.openxmlformats.org/officeDocument/2006/relationships/slide" Target="slide55.xml"/><Relationship Id="rId9" Type="http://schemas.openxmlformats.org/officeDocument/2006/relationships/slide" Target="slide56.xml"/><Relationship Id="rId10" Type="http://schemas.openxmlformats.org/officeDocument/2006/relationships/slide" Target="slide57.xml"/><Relationship Id="rId11" Type="http://schemas.openxmlformats.org/officeDocument/2006/relationships/slide" Target="slide58.xml"/><Relationship Id="rId12" Type="http://schemas.openxmlformats.org/officeDocument/2006/relationships/slide" Target="slide59.xml"/><Relationship Id="rId13" Type="http://schemas.openxmlformats.org/officeDocument/2006/relationships/slide" Target="slide60.xml"/><Relationship Id="rId14" Type="http://schemas.openxmlformats.org/officeDocument/2006/relationships/slide" Target="slide61.xml"/><Relationship Id="rId15" Type="http://schemas.openxmlformats.org/officeDocument/2006/relationships/slide" Target="slide62.xml"/><Relationship Id="rId16" Type="http://schemas.openxmlformats.org/officeDocument/2006/relationships/slide" Target="slide63.xml"/><Relationship Id="rId17" Type="http://schemas.openxmlformats.org/officeDocument/2006/relationships/slide" Target="slide64.xml"/><Relationship Id="rId18" Type="http://schemas.openxmlformats.org/officeDocument/2006/relationships/slide" Target="slide65.xml"/><Relationship Id="rId19" Type="http://schemas.openxmlformats.org/officeDocument/2006/relationships/slide" Target="slide66.xml"/><Relationship Id="rId20" Type="http://schemas.openxmlformats.org/officeDocument/2006/relationships/slide" Target="slide67.xml"/><Relationship Id="rId21" Type="http://schemas.openxmlformats.org/officeDocument/2006/relationships/slide" Target="slide68.xml"/><Relationship Id="rId22" Type="http://schemas.openxmlformats.org/officeDocument/2006/relationships/slide" Target="slide69.xml"/><Relationship Id="rId23" Type="http://schemas.openxmlformats.org/officeDocument/2006/relationships/slide" Target="slide70.xml"/><Relationship Id="rId24" Type="http://schemas.openxmlformats.org/officeDocument/2006/relationships/slide" Target="slide71.xml"/><Relationship Id="rId25" Type="http://schemas.openxmlformats.org/officeDocument/2006/relationships/slide" Target="slide72.xml"/><Relationship Id="rId26" Type="http://schemas.openxmlformats.org/officeDocument/2006/relationships/slide" Target="slide73.xml"/><Relationship Id="rId27" Type="http://schemas.openxmlformats.org/officeDocument/2006/relationships/slide" Target="slide74.xml"/><Relationship Id="rId28" Type="http://schemas.openxmlformats.org/officeDocument/2006/relationships/slide" Target="slide75.xml"/><Relationship Id="rId29" Type="http://schemas.openxmlformats.org/officeDocument/2006/relationships/slide" Target="slide76.xml"/><Relationship Id="rId30" Type="http://schemas.openxmlformats.org/officeDocument/2006/relationships/slide" Target="slide77.xml"/><Relationship Id="rId31" Type="http://schemas.openxmlformats.org/officeDocument/2006/relationships/slide" Target="slide78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3.xml"/><Relationship Id="rId17" Type="http://schemas.openxmlformats.org/officeDocument/2006/relationships/slide" Target="slide24.xml"/><Relationship Id="rId18" Type="http://schemas.openxmlformats.org/officeDocument/2006/relationships/slide" Target="slide25.xml"/><Relationship Id="rId19" Type="http://schemas.openxmlformats.org/officeDocument/2006/relationships/slide" Target="slide26.xml"/><Relationship Id="rId20" Type="http://schemas.openxmlformats.org/officeDocument/2006/relationships/slide" Target="slide27.xml"/><Relationship Id="rId21" Type="http://schemas.openxmlformats.org/officeDocument/2006/relationships/slide" Target="slide28.xml"/><Relationship Id="rId22" Type="http://schemas.openxmlformats.org/officeDocument/2006/relationships/slide" Target="slide29.xml"/><Relationship Id="rId23" Type="http://schemas.openxmlformats.org/officeDocument/2006/relationships/slide" Target="slide30.xml"/><Relationship Id="rId24" Type="http://schemas.openxmlformats.org/officeDocument/2006/relationships/slide" Target="slide31.xml"/><Relationship Id="rId25" Type="http://schemas.openxmlformats.org/officeDocument/2006/relationships/slide" Target="slide32.xml"/><Relationship Id="rId26" Type="http://schemas.openxmlformats.org/officeDocument/2006/relationships/slide" Target="slide33.xml"/><Relationship Id="rId27" Type="http://schemas.openxmlformats.org/officeDocument/2006/relationships/slide" Target="slide35.xml"/><Relationship Id="rId28" Type="http://schemas.openxmlformats.org/officeDocument/2006/relationships/slide" Target="slide36.xml"/><Relationship Id="rId29" Type="http://schemas.openxmlformats.org/officeDocument/2006/relationships/slide" Target="slide37.xml"/><Relationship Id="rId30" Type="http://schemas.openxmlformats.org/officeDocument/2006/relationships/slide" Target="slide38.xml"/><Relationship Id="rId31" Type="http://schemas.openxmlformats.org/officeDocument/2006/relationships/slide" Target="slide39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’arrache  le PP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la dernière foi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066680" y="1447920"/>
            <a:ext cx="67057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 fait le P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il veut pleurer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143000" y="1066680"/>
            <a:ext cx="723888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quo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P traîn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838080" y="990720"/>
            <a:ext cx="75438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l mot di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 quitta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Fleur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Fleur veut q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P tâche d’…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914400" y="1143000"/>
            <a:ext cx="71629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quoi elle do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pporter quelqu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nille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685800" y="838080"/>
            <a:ext cx="77724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quoi elle 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raint pas 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ndes bête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838080" y="990720"/>
            <a:ext cx="73915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quoi el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 pen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t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371600" y="1447920"/>
            <a:ext cx="60958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adjectif  que le P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tilise pour el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q’elle ne veut p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’il la voit pleur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838080" y="838080"/>
            <a:ext cx="746784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cription d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êtements du Ro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219320" y="1143000"/>
            <a:ext cx="68580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’enfui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1447920" y="1143000"/>
            <a:ext cx="632448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cripti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où il s’assoî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1295280" y="1371600"/>
            <a:ext cx="655344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premier mot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Roi au P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066680" y="1143000"/>
            <a:ext cx="678204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action du P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raire à l’etiquet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762120" y="838080"/>
            <a:ext cx="777240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q le Roi e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monarq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iverse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371600" y="1219320"/>
            <a:ext cx="624852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 quittant un cocon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e deviens un papill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1295280" y="1371600"/>
            <a:ext cx="647712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 qui encomb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planète du Ro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1371600" y="914400"/>
            <a:ext cx="64771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 que le Ro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 supporte p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z ses suje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143000" y="1143000"/>
            <a:ext cx="723888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 que le Roi voudrai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tiliser pour faire 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ur de sa planè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1143000" y="1219320"/>
            <a:ext cx="66294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raire à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etiquet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on e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vant le Ro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914400" y="838080"/>
            <a:ext cx="739152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 qu’on fa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x volca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éviter 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érup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1371600" y="1828800"/>
            <a:ext cx="609588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Fle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60560" y="1212840"/>
            <a:ext cx="726120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143000" y="1295280"/>
            <a:ext cx="716292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donn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914400" y="838080"/>
            <a:ext cx="746748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 que le PP fait à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 pet’ déj’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 utilisant le volc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914400" y="914400"/>
            <a:ext cx="74674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ler, ma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sonne  ne peu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ien comprend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914400" y="990720"/>
            <a:ext cx="739152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ond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un des volca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z le P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990720" y="2209680"/>
            <a:ext cx="70866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upi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m &amp; f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838080" y="1066680"/>
            <a:ext cx="754380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rpris, choqué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étonné, stupéfa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838080" y="1676520"/>
            <a:ext cx="73915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djectif qui décr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air que la Fle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nse lui fera du bi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914400" y="990720"/>
            <a:ext cx="754380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2 types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outeilles qu’on trou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z le Buve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143000" y="2362320"/>
            <a:ext cx="68580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roi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21" name="TADA.WAV" descr=""/>
          <p:cNvPicPr/>
          <p:nvPr/>
        </p:nvPicPr>
        <p:blipFill>
          <a:blip r:embed="rId5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617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685800" y="685800"/>
            <a:ext cx="8001000" cy="563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i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838080" y="914400"/>
            <a:ext cx="70866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nite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uve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1752480" y="1828800"/>
            <a:ext cx="61722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ocabulai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scelann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1143000" y="1143000"/>
            <a:ext cx="69343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ita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élèb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3049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oi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aniteux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Buveu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ocabulai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scelanné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77724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itation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4"/>
          <p:cNvSpPr/>
          <p:nvPr/>
        </p:nvSpPr>
        <p:spPr>
          <a:xfrm>
            <a:off x="77760" y="57942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5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6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7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8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9"/>
          <p:cNvSpPr/>
          <p:nvPr/>
        </p:nvSpPr>
        <p:spPr>
          <a:xfrm>
            <a:off x="160200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0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1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2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3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4"/>
          <p:cNvSpPr/>
          <p:nvPr/>
        </p:nvSpPr>
        <p:spPr>
          <a:xfrm>
            <a:off x="312588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5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6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7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8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59"/>
          <p:cNvSpPr/>
          <p:nvPr/>
        </p:nvSpPr>
        <p:spPr>
          <a:xfrm>
            <a:off x="46497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61833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6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7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8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9"/>
          <p:cNvSpPr/>
          <p:nvPr/>
        </p:nvSpPr>
        <p:spPr>
          <a:xfrm>
            <a:off x="770724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70">
            <a:hlinkClick r:id="rId32" action="ppaction://hlinksldjump"/>
          </p:cNvPr>
          <p:cNvSpPr/>
          <p:nvPr/>
        </p:nvSpPr>
        <p:spPr>
          <a:xfrm>
            <a:off x="8763120" y="6477120"/>
            <a:ext cx="228600" cy="152280"/>
          </a:xfrm>
          <a:custGeom>
            <a:avLst/>
            <a:gdLst>
              <a:gd name="textAreaLeft" fmla="*/ 70560 w 228600"/>
              <a:gd name="textAreaRight" fmla="*/ 158040 w 22860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143000" y="990720"/>
            <a:ext cx="739152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djectif pour décri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ordres du Ro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838080" y="990720"/>
            <a:ext cx="769644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l fave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it-il (le PP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tendre du Roi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no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689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685800" y="990720"/>
            <a:ext cx="77724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ls 2 pos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ns son gouverne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fre le Roi  au PP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990720" y="914400"/>
            <a:ext cx="739116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l type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narq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t le Roi? (2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914400" y="11430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Selon le roi)Pq il fau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cier le vieux rat, si 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condamne à mort: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l’…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762120" y="838080"/>
            <a:ext cx="777240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s premi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ts au P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2"/>
          <p:cNvSpPr txBox="1"/>
          <p:nvPr/>
        </p:nvSpPr>
        <p:spPr>
          <a:xfrm>
            <a:off x="838080" y="838080"/>
            <a:ext cx="7696440" cy="541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’est-ce qui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ît  au PP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son costum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762120" y="838080"/>
            <a:ext cx="769608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 que le P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pprend ic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609480" y="533520"/>
            <a:ext cx="7620120" cy="57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Vaniteux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’entend que…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1143000" y="1066680"/>
            <a:ext cx="716292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pliq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« Admirer 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e le Vanite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expliq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838080" y="990720"/>
            <a:ext cx="723924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 a une collecti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quoi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Verb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219320" y="914400"/>
            <a:ext cx="68580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quo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oit-il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1143000" y="1066680"/>
            <a:ext cx="662940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q a-t-i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nt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762120" y="838080"/>
            <a:ext cx="73152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 veut fai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P pour 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uveur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2"/>
          <p:cNvSpPr txBox="1"/>
          <p:nvPr/>
        </p:nvSpPr>
        <p:spPr>
          <a:xfrm>
            <a:off x="838080" y="914400"/>
            <a:ext cx="75438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ent e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air du Buveu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il parl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762120" y="838080"/>
            <a:ext cx="7696080" cy="541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 pa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mett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1143000" y="2286000"/>
            <a:ext cx="73915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donn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1295280" y="2362320"/>
            <a:ext cx="670572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oir pitié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1219320" y="1219320"/>
            <a:ext cx="693396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tiliser les mo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admir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2"/>
          <p:cNvSpPr txBox="1"/>
          <p:nvPr/>
        </p:nvSpPr>
        <p:spPr>
          <a:xfrm>
            <a:off x="914400" y="990720"/>
            <a:ext cx="75438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puissance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apacit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533520" y="1219320"/>
            <a:ext cx="82296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p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arning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762120" y="914400"/>
            <a:ext cx="76960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djectif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762120" y="1295280"/>
            <a:ext cx="761976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will kno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en français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685800" y="914400"/>
            <a:ext cx="792468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Q nous avon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ennuis avec 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olcans sur la Ter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685800" y="838080"/>
            <a:ext cx="777240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P étai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éconcerté pa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Fleur pa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absence de…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838080" y="990720"/>
            <a:ext cx="754380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quoi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rt le chapea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Vaniteux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2"/>
          <p:cNvSpPr txBox="1"/>
          <p:nvPr/>
        </p:nvSpPr>
        <p:spPr>
          <a:xfrm>
            <a:off x="1066680" y="1371600"/>
            <a:ext cx="708660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les vaniteux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autres homm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t des ______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762120" y="838080"/>
            <a:ext cx="75438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 faut bien que je suppor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ou 3 _____ si je ve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naître les _______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2"/>
          <p:cNvSpPr txBox="1"/>
          <p:nvPr/>
        </p:nvSpPr>
        <p:spPr>
          <a:xfrm>
            <a:off x="685800" y="914400"/>
            <a:ext cx="77724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u te jugera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_______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’est le plus difficil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2"/>
          <p:cNvSpPr txBox="1"/>
          <p:nvPr/>
        </p:nvSpPr>
        <p:spPr>
          <a:xfrm>
            <a:off x="609480" y="838080"/>
            <a:ext cx="800100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autorit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ose s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_____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>
            <a:off x="838080" y="914400"/>
            <a:ext cx="762012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 faut _____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chacu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 que chacu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ut _____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8" name="WordArt 3"/>
          <p:cNvSpPr txBox="1"/>
          <p:nvPr/>
        </p:nvSpPr>
        <p:spPr>
          <a:xfrm>
            <a:off x="1295280" y="4572000"/>
            <a:ext cx="64771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Le Voyage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’enfui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os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oi 1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om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erb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djectif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4">
            <a:hlinkClick r:id="rId3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2"/>
          <p:cNvSpPr txBox="1"/>
          <p:nvPr/>
        </p:nvSpPr>
        <p:spPr>
          <a:xfrm>
            <a:off x="533520" y="914400"/>
            <a:ext cx="800100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n quittan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es premières 3 planètes,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e PP dit: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« Les GP sont vraiment….. (2) »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4320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2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Étranges,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bizarr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371600" y="1600200"/>
            <a:ext cx="70866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ent s’échappe 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P de sa planèt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Phyllis</cp:lastModifiedBy>
  <dcterms:modified xsi:type="dcterms:W3CDTF">2013-03-24T14:35:34Z</dcterms:modified>
  <cp:revision>111</cp:revision>
  <dc:subject/>
  <dc:title>No Slide Title</dc:title>
</cp:coreProperties>
</file>